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38B4-9649-413B-A210-7BC6CA072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FA63-5641-4C1F-8261-0D03B6635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1AE2-6E2C-48C8-9BC0-7E5F6D05C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4436-F73E-4B75-8882-CA8CB48980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9BDE-B114-484B-BF6F-1591AB7476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88D0-E21A-4C5F-9A18-B5A15327C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4E77-7E1E-47A9-B594-3042B7E85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F605-2AB3-4A4C-8C4F-5B2D8A502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9FFB-86BF-4535-951D-7A0D1AD60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2BD9-B5A0-4D1C-9F6A-35ABFACFB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35F4-7D36-4860-A659-C5C4EC118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3AC5-809B-4976-9F1D-7184207D9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0DE53-91D7-4343-8A5D-2C5C197F7894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Lecture 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ELECTROTHERAPY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Alternating currents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C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low-frequency alternating currents of a sinusoidal shape which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occur endogenously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the tissues, by interference (superposition) of the middle-frequency currents from two independent circuits, which differ in frequency from 0-100 Hz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C are obtained by crossing power lines of two middle-frequency circuits which have a different frequency and the same strength. By phenomenon of interference, at a site of crossing,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io-powe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s obtained, whose frequency amounts to the difference in frequency of the component currents, that’s why they are called 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“crossed curr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ferential currents (IF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cy of one circuit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lways constant and amounts to 4000Hz. The other circuit has a variable frequency which amounts from 3900 to 4000Hz or 4000 to 4100Hz (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btained current- IFC (C) can be constant or rhythmically variable within the range from 0 to 100Hz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sides its frequency, a current changes its intensity of interference from maximal interference (100%) to 0 and vice ver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ological effect of IC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219320" y="16002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- stimulatory effect on the neuromuscular system, causing muscle contraction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50 Hz -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imulatory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1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ighly trophic effect, antiedematous, analgesic eff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100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z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timulate bone healing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with a rhythmic frequenc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rom 90 to 100 Hz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sympaticolytic and analgesic effec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ummed biological effects of IC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blood flow, causing vasodilation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leads to the increased blood flow and oxygenation of the tissues, as well as faster toxin and pain mediator elimin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ges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ecause of improved circulation and oxygenation of the tissues and the effect it has on nerve end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d excitability and conductability of the peripheral nerv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has a stimulatory effect on the damaged nerv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hibitory effect on the sympaticus and stimulatory on the parasympatic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crease of the lymph flow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resorption of ed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roved muscle mas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and promoted wound heal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imulated formation of callus in frac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of pH value towards the alcalinity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i-inflammatory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ing circulation, metabolism and resor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imulatory on the transversely-striated and smooth muscle fi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sing of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99072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rength of a current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a diagn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uration of the application tim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to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umber of treatments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limi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I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189080" y="1279440"/>
            <a:ext cx="792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traumatic conditions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us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or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xati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fractures and its complication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eudo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Sudec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vical and lumbar syndro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algia, neuritis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after the nerve inju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hrit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thr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Bekhtere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H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eumatoid arthritis, non-articular rheuma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. Burg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ynau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gh-frequency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an alternating current with a frequency over 300 kHz. HFC represents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pecific form of thermotherap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ich uses heat, obtained by 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onversion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electrical power, to be absorbed by tiss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 heat produced this way in the organism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 called endogenous heat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ecause it is developed in the tissues themselves, unlike the exogenous heat, which acts externally on the ski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F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ort-wave diathermi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286000" y="2057400"/>
            <a:ext cx="5029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,12 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1,06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,56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,12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219320" y="1600200"/>
            <a:ext cx="77724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effect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219320" y="3924360"/>
            <a:ext cx="777240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effects of HF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5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irc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nervous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usc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onnective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metabolism and enzyme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ostatic and bactericidal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NG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intensity an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Direction of ion f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304920"/>
            <a:ext cx="83822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ctrodes for SWD and methods of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042920" y="206064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halcogenide glass electrodes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ic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late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rubber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Rabb’s electrodes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ic fiel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il of an electrod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onode and mi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38360"/>
                <a:tab algn="l" pos="1195560"/>
                <a:tab algn="l" pos="1652760"/>
                <a:tab algn="l" pos="2109960"/>
                <a:tab algn="l" pos="2567160"/>
                <a:tab algn="l" pos="3024360"/>
                <a:tab algn="l" pos="3481560"/>
                <a:tab algn="l" pos="3938760"/>
                <a:tab algn="l" pos="4395960"/>
                <a:tab algn="l" pos="4853160"/>
                <a:tab algn="l" pos="5310360"/>
                <a:tab algn="l" pos="5767560"/>
                <a:tab algn="l" pos="6224760"/>
                <a:tab algn="l" pos="6681960"/>
                <a:tab algn="l" pos="7139160"/>
                <a:tab algn="l" pos="7596360"/>
                <a:tab algn="l" pos="8053560"/>
                <a:tab algn="l" pos="8510760"/>
                <a:tab algn="l" pos="8967960"/>
                <a:tab algn="l" pos="9425160"/>
                <a:tab algn="l" pos="98823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nduction cable or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ing of intensity is perform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t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ximal dose is up to 100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se is usually determin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on the subjec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ient’s feeling, whereby pleasant and mild warmth should be fe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ing on the radiation intensity, the following doses may be appl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A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warmth is not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Oligo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only mild warmth is fe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Thermal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when pleasant warmth is felt 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icrosoft YaHei"/>
              </a:rPr>
              <a:t>Hypertherm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when strong warmth is fe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ation of the application time is from 15 to 20 minu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380880" y="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heumatic diseases in chronic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itions after the injury of the locomotive apparatus (except the acute on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diseases of ear, nose and throat (sinusitis, otiti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ynecological chronic non-specific inflammatory diseases (adnexitis, parametritis, salpingitis, adhesions after gynecological surgeries, primary and secondary steri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c non-specific pulmonary diseases (chronic bronchitis, after pneumonia and exudative pleuritis, lung absc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n diseases: furunculosis, carbuncle, hydroadeni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diseases (neuralgia and neu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Contraindications for SW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ute inflamma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ebrile conditions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alignant tumor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Bleeding tendenc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nstrua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Metal objects at the site of applic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Pregnanc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cave abortus)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Obliterating endarteriti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Unadequate sensory response to thermal stimuli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recautionary measures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752480" y="1905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e-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oden bed or wooden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ing aid and w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al im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46386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Faraday 183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symmetr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irregularity of a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nly historic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762120" y="1905120"/>
            <a:ext cx="4033800" cy="4520880"/>
            <a:chOff x="762120" y="1905120"/>
            <a:chExt cx="4033800" cy="4520880"/>
          </a:xfrm>
        </p:grpSpPr>
        <p:sp>
          <p:nvSpPr>
            <p:cNvPr id="49" name="Line 4"/>
            <p:cNvSpPr/>
            <p:nvPr/>
          </p:nvSpPr>
          <p:spPr>
            <a:xfrm>
              <a:off x="798480" y="4642200"/>
              <a:ext cx="39974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 flipV="1">
              <a:off x="762120" y="1919160"/>
              <a:ext cx="0" cy="2561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Line 6"/>
            <p:cNvSpPr/>
            <p:nvPr/>
          </p:nvSpPr>
          <p:spPr>
            <a:xfrm flipV="1">
              <a:off x="763560" y="1905120"/>
              <a:ext cx="0" cy="26596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939960" y="3168000"/>
              <a:ext cx="371160" cy="24278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2427840"/>
                <a:gd name="textAreaBottom" fmla="*/ 2428200 h 2427840"/>
              </a:gdLst>
              <a:ahLst/>
              <a:rect l="textAreaLeft" t="textAreaTop" r="textAreaRight" b="textAreaBottom"/>
              <a:pathLst>
                <a:path w="360" h="1410">
                  <a:moveTo>
                    <a:pt x="0" y="960"/>
                  </a:moveTo>
                  <a:cubicBezTo>
                    <a:pt x="75" y="480"/>
                    <a:pt x="150" y="0"/>
                    <a:pt x="180" y="60"/>
                  </a:cubicBezTo>
                  <a:cubicBezTo>
                    <a:pt x="210" y="120"/>
                    <a:pt x="150" y="1230"/>
                    <a:pt x="180" y="1320"/>
                  </a:cubicBezTo>
                  <a:cubicBezTo>
                    <a:pt x="210" y="1410"/>
                    <a:pt x="330" y="720"/>
                    <a:pt x="360" y="60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8"/>
            <p:cNvSpPr/>
            <p:nvPr/>
          </p:nvSpPr>
          <p:spPr>
            <a:xfrm>
              <a:off x="1425600" y="2355840"/>
              <a:ext cx="165240" cy="32925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210" h="2010">
                  <a:moveTo>
                    <a:pt x="0" y="1350"/>
                  </a:moveTo>
                  <a:cubicBezTo>
                    <a:pt x="90" y="675"/>
                    <a:pt x="180" y="0"/>
                    <a:pt x="180" y="90"/>
                  </a:cubicBezTo>
                  <a:cubicBezTo>
                    <a:pt x="180" y="180"/>
                    <a:pt x="0" y="1770"/>
                    <a:pt x="0" y="1890"/>
                  </a:cubicBezTo>
                  <a:cubicBezTo>
                    <a:pt x="0" y="2010"/>
                    <a:pt x="150" y="870"/>
                    <a:pt x="180" y="810"/>
                  </a:cubicBezTo>
                  <a:cubicBezTo>
                    <a:pt x="210" y="750"/>
                    <a:pt x="180" y="1440"/>
                    <a:pt x="180" y="1530"/>
                  </a:cubicBezTo>
                  <a:cubicBezTo>
                    <a:pt x="180" y="1620"/>
                    <a:pt x="180" y="1380"/>
                    <a:pt x="180" y="13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9"/>
            <p:cNvSpPr/>
            <p:nvPr/>
          </p:nvSpPr>
          <p:spPr>
            <a:xfrm>
              <a:off x="2760840" y="3060360"/>
              <a:ext cx="431640" cy="248472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484720"/>
                <a:gd name="textAreaBottom" fmla="*/ 2485080 h 2484720"/>
              </a:gdLst>
              <a:ahLst/>
              <a:rect l="textAreaLeft" t="textAreaTop" r="textAreaRight" b="textAreaBottom"/>
              <a:pathLst>
                <a:path w="540" h="1920">
                  <a:moveTo>
                    <a:pt x="0" y="1320"/>
                  </a:moveTo>
                  <a:cubicBezTo>
                    <a:pt x="75" y="660"/>
                    <a:pt x="150" y="0"/>
                    <a:pt x="180" y="60"/>
                  </a:cubicBezTo>
                  <a:cubicBezTo>
                    <a:pt x="210" y="120"/>
                    <a:pt x="180" y="1590"/>
                    <a:pt x="180" y="1680"/>
                  </a:cubicBezTo>
                  <a:cubicBezTo>
                    <a:pt x="180" y="1770"/>
                    <a:pt x="150" y="570"/>
                    <a:pt x="180" y="600"/>
                  </a:cubicBezTo>
                  <a:cubicBezTo>
                    <a:pt x="210" y="630"/>
                    <a:pt x="330" y="1920"/>
                    <a:pt x="360" y="1860"/>
                  </a:cubicBezTo>
                  <a:cubicBezTo>
                    <a:pt x="390" y="1800"/>
                    <a:pt x="330" y="330"/>
                    <a:pt x="360" y="240"/>
                  </a:cubicBezTo>
                  <a:cubicBezTo>
                    <a:pt x="390" y="150"/>
                    <a:pt x="510" y="1140"/>
                    <a:pt x="540" y="132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0"/>
            <p:cNvSpPr/>
            <p:nvPr/>
          </p:nvSpPr>
          <p:spPr>
            <a:xfrm>
              <a:off x="1817640" y="3236400"/>
              <a:ext cx="339840" cy="23421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342160"/>
                <a:gd name="textAreaBottom" fmla="*/ 2342520 h 2342160"/>
              </a:gdLst>
              <a:ahLst/>
              <a:rect l="textAreaLeft" t="textAreaTop" r="textAreaRight" b="textAreaBottom"/>
              <a:pathLst>
                <a:path w="360" h="2220">
                  <a:moveTo>
                    <a:pt x="0" y="1650"/>
                  </a:moveTo>
                  <a:cubicBezTo>
                    <a:pt x="75" y="855"/>
                    <a:pt x="150" y="60"/>
                    <a:pt x="180" y="30"/>
                  </a:cubicBezTo>
                  <a:cubicBezTo>
                    <a:pt x="210" y="0"/>
                    <a:pt x="180" y="1110"/>
                    <a:pt x="180" y="1470"/>
                  </a:cubicBezTo>
                  <a:cubicBezTo>
                    <a:pt x="180" y="1830"/>
                    <a:pt x="150" y="2160"/>
                    <a:pt x="180" y="2190"/>
                  </a:cubicBezTo>
                  <a:cubicBezTo>
                    <a:pt x="210" y="2220"/>
                    <a:pt x="330" y="1740"/>
                    <a:pt x="360" y="165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2368440" y="2708280"/>
              <a:ext cx="228600" cy="37177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360" h="2520">
                  <a:moveTo>
                    <a:pt x="0" y="1410"/>
                  </a:moveTo>
                  <a:cubicBezTo>
                    <a:pt x="75" y="1965"/>
                    <a:pt x="150" y="2520"/>
                    <a:pt x="180" y="2310"/>
                  </a:cubicBezTo>
                  <a:cubicBezTo>
                    <a:pt x="210" y="2100"/>
                    <a:pt x="150" y="300"/>
                    <a:pt x="180" y="150"/>
                  </a:cubicBezTo>
                  <a:cubicBezTo>
                    <a:pt x="210" y="0"/>
                    <a:pt x="330" y="1200"/>
                    <a:pt x="360" y="1410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chnique of appl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189080" y="1968480"/>
            <a:ext cx="78026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Stab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Bipolar technique with metal plate electr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Labile meth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onopolar technique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. Active electrode is in a shape of a cyllinder or in a shape of a bigger or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smaller brus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4800" indent="-60480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7488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</a:t>
            </a:r>
            <a:r>
              <a:rPr b="1" lang="sv-SE" sz="44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2438280" y="2438280"/>
            <a:ext cx="5786640" cy="1914480"/>
            <a:chOff x="2438280" y="2438280"/>
            <a:chExt cx="5786640" cy="1914480"/>
          </a:xfrm>
        </p:grpSpPr>
        <p:sp>
          <p:nvSpPr>
            <p:cNvPr id="61" name="Line 3"/>
            <p:cNvSpPr/>
            <p:nvPr/>
          </p:nvSpPr>
          <p:spPr>
            <a:xfrm>
              <a:off x="2468520" y="4316040"/>
              <a:ext cx="57564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468468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6624720" y="3061080"/>
              <a:ext cx="237960" cy="1240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2682720" y="3061080"/>
              <a:ext cx="238320" cy="12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228" h="798">
                  <a:moveTo>
                    <a:pt x="0" y="798"/>
                  </a:moveTo>
                  <a:cubicBezTo>
                    <a:pt x="38" y="399"/>
                    <a:pt x="76" y="0"/>
                    <a:pt x="114" y="0"/>
                  </a:cubicBezTo>
                  <a:cubicBezTo>
                    <a:pt x="152" y="0"/>
                    <a:pt x="209" y="665"/>
                    <a:pt x="228" y="798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 flipV="1">
              <a:off x="2438280" y="2438280"/>
              <a:ext cx="0" cy="1914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Rectangle 8"/>
          <p:cNvSpPr/>
          <p:nvPr/>
        </p:nvSpPr>
        <p:spPr>
          <a:xfrm>
            <a:off x="1600200" y="4648320"/>
            <a:ext cx="6781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u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 ms,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ed for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diagnostic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Neofarad curr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Has a stimulative effect on the sensory and motor nerves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etanic contraction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t is us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lassic electrodiagno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s labile faradization in psychogenic disord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ysteria and enur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54936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1371600" y="297180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mpuls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Usually in an array of impulses of 7 or more very short impul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mpulse lasts from 0,0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0,4 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and the frequency is fro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75 to 125 Hz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mpulses are triangular or rectangular, biphasic or monoph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2666880" y="1905120"/>
            <a:ext cx="4265640" cy="877320"/>
            <a:chOff x="2666880" y="1905120"/>
            <a:chExt cx="4265640" cy="877320"/>
          </a:xfrm>
        </p:grpSpPr>
        <p:sp>
          <p:nvSpPr>
            <p:cNvPr id="72" name="Line 4"/>
            <p:cNvSpPr/>
            <p:nvPr/>
          </p:nvSpPr>
          <p:spPr>
            <a:xfrm>
              <a:off x="2666880" y="2673360"/>
              <a:ext cx="4265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5"/>
            <p:cNvSpPr/>
            <p:nvPr/>
          </p:nvSpPr>
          <p:spPr>
            <a:xfrm flipV="1">
              <a:off x="2681280" y="1905120"/>
              <a:ext cx="0" cy="761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6"/>
            <p:cNvSpPr/>
            <p:nvPr/>
          </p:nvSpPr>
          <p:spPr>
            <a:xfrm>
              <a:off x="28274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7"/>
            <p:cNvSpPr/>
            <p:nvPr/>
          </p:nvSpPr>
          <p:spPr>
            <a:xfrm>
              <a:off x="3260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8"/>
            <p:cNvSpPr/>
            <p:nvPr/>
          </p:nvSpPr>
          <p:spPr>
            <a:xfrm>
              <a:off x="3370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9"/>
            <p:cNvSpPr/>
            <p:nvPr/>
          </p:nvSpPr>
          <p:spPr>
            <a:xfrm>
              <a:off x="3514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0"/>
            <p:cNvSpPr/>
            <p:nvPr/>
          </p:nvSpPr>
          <p:spPr>
            <a:xfrm>
              <a:off x="365904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1"/>
            <p:cNvSpPr/>
            <p:nvPr/>
          </p:nvSpPr>
          <p:spPr>
            <a:xfrm>
              <a:off x="51436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2"/>
            <p:cNvSpPr/>
            <p:nvPr/>
          </p:nvSpPr>
          <p:spPr>
            <a:xfrm>
              <a:off x="311616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13"/>
            <p:cNvSpPr/>
            <p:nvPr/>
          </p:nvSpPr>
          <p:spPr>
            <a:xfrm>
              <a:off x="297180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4"/>
            <p:cNvSpPr/>
            <p:nvPr/>
          </p:nvSpPr>
          <p:spPr>
            <a:xfrm>
              <a:off x="5251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5"/>
            <p:cNvSpPr/>
            <p:nvPr/>
          </p:nvSpPr>
          <p:spPr>
            <a:xfrm>
              <a:off x="535932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5505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7"/>
            <p:cNvSpPr/>
            <p:nvPr/>
          </p:nvSpPr>
          <p:spPr>
            <a:xfrm>
              <a:off x="5613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18"/>
            <p:cNvSpPr/>
            <p:nvPr/>
          </p:nvSpPr>
          <p:spPr>
            <a:xfrm>
              <a:off x="57214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19"/>
            <p:cNvSpPr/>
            <p:nvPr/>
          </p:nvSpPr>
          <p:spPr>
            <a:xfrm>
              <a:off x="5033880" y="2169720"/>
              <a:ext cx="139680" cy="6127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28" h="978">
                  <a:moveTo>
                    <a:pt x="0" y="741"/>
                  </a:moveTo>
                  <a:cubicBezTo>
                    <a:pt x="43" y="859"/>
                    <a:pt x="86" y="978"/>
                    <a:pt x="114" y="855"/>
                  </a:cubicBezTo>
                  <a:cubicBezTo>
                    <a:pt x="142" y="732"/>
                    <a:pt x="152" y="0"/>
                    <a:pt x="171" y="0"/>
                  </a:cubicBezTo>
                  <a:cubicBezTo>
                    <a:pt x="190" y="0"/>
                    <a:pt x="219" y="713"/>
                    <a:pt x="228" y="855"/>
                  </a:cubicBez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ranscutaneous electrical nerve stimulation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NS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lectrostimulation for p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gate contr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"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ce of endogenous opioid and non-opioid system in achieving the analgesic effect: endorphins and enkephal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ddle-frequency cur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terferential 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Nemec’s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cur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Sinusoid-modulated currents </a:t>
            </a:r>
            <a:r>
              <a:rPr b="1" lang="en-GB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f0"/>
                </a:solidFill>
                <a:latin typeface="France YU"/>
                <a:ea typeface="Times New Roman"/>
              </a:rPr>
              <a:t>Russian stimulation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Nada Miklja</cp:lastModifiedBy>
  <dcterms:modified xsi:type="dcterms:W3CDTF">2023-09-26T08:53:48Z</dcterms:modified>
  <cp:revision>57</cp:revision>
  <dc:subject/>
  <dc:title>NAIZMENIČNE STRUJE</dc:title>
</cp:coreProperties>
</file>